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6427-945D-452D-AF1D-808012B06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66760" y="692280"/>
            <a:ext cx="4616640" cy="3463920"/>
          </a:xfrm>
          <a:prstGeom prst="rect">
            <a:avLst/>
          </a:prstGeom>
          <a:ln w="0">
            <a:noFill/>
          </a:ln>
        </p:spPr>
      </p:sp>
      <p:sp>
        <p:nvSpPr>
          <p:cNvPr id="30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249E-47BF-4FA0-8E90-A599E675F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66760" y="692280"/>
            <a:ext cx="4616640" cy="3463920"/>
          </a:xfrm>
          <a:prstGeom prst="rect">
            <a:avLst/>
          </a:prstGeom>
          <a:ln w="0">
            <a:noFill/>
          </a:ln>
        </p:spPr>
      </p:sp>
      <p:sp>
        <p:nvSpPr>
          <p:cNvPr id="31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259C-0F51-4AFE-B6D0-9FF0651A7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6760" y="692280"/>
            <a:ext cx="4616640" cy="3463920"/>
          </a:xfrm>
          <a:prstGeom prst="rect">
            <a:avLst/>
          </a:prstGeom>
          <a:ln w="0">
            <a:noFill/>
          </a:ln>
        </p:spPr>
      </p:sp>
      <p:sp>
        <p:nvSpPr>
          <p:cNvPr id="31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3BDA-6CC7-46E2-9208-80915678F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6760" y="692280"/>
            <a:ext cx="4616640" cy="3463920"/>
          </a:xfrm>
          <a:prstGeom prst="rect">
            <a:avLst/>
          </a:prstGeom>
          <a:ln w="0">
            <a:noFill/>
          </a:ln>
        </p:spPr>
      </p:sp>
      <p:sp>
        <p:nvSpPr>
          <p:cNvPr id="31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8813-F864-4102-9A06-CAC350456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6760" y="692280"/>
            <a:ext cx="461664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0242-D4CC-4300-8EC6-1D80C1D63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6760" y="692280"/>
            <a:ext cx="4616640" cy="3463920"/>
          </a:xfrm>
          <a:prstGeom prst="rect">
            <a:avLst/>
          </a:prstGeom>
          <a:ln w="0">
            <a:noFill/>
          </a:ln>
        </p:spPr>
      </p:sp>
      <p:sp>
        <p:nvSpPr>
          <p:cNvPr id="28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4A67-083B-4250-B3DD-457D26053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66760" y="692280"/>
            <a:ext cx="4616640" cy="3463920"/>
          </a:xfrm>
          <a:prstGeom prst="rect">
            <a:avLst/>
          </a:prstGeom>
          <a:ln w="0">
            <a:noFill/>
          </a:ln>
        </p:spPr>
      </p:sp>
      <p:sp>
        <p:nvSpPr>
          <p:cNvPr id="28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C596-D0A8-4AB6-A8F9-A97FCBA9C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6760" y="692280"/>
            <a:ext cx="4616640" cy="3463920"/>
          </a:xfrm>
          <a:prstGeom prst="rect">
            <a:avLst/>
          </a:prstGeom>
          <a:ln w="0">
            <a:noFill/>
          </a:ln>
        </p:spPr>
      </p:sp>
      <p:sp>
        <p:nvSpPr>
          <p:cNvPr id="28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CA1B-62B2-4B3D-A7D4-A962C370A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6760" y="692280"/>
            <a:ext cx="4616640" cy="3463920"/>
          </a:xfrm>
          <a:prstGeom prst="rect">
            <a:avLst/>
          </a:prstGeom>
          <a:ln w="0">
            <a:noFill/>
          </a:ln>
        </p:spPr>
      </p:sp>
      <p:sp>
        <p:nvSpPr>
          <p:cNvPr id="29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F859-28D8-4D52-A70F-2B813EA99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66760" y="692280"/>
            <a:ext cx="4616640" cy="3463920"/>
          </a:xfrm>
          <a:prstGeom prst="rect">
            <a:avLst/>
          </a:prstGeom>
          <a:ln w="0">
            <a:noFill/>
          </a:ln>
        </p:spPr>
      </p:sp>
      <p:sp>
        <p:nvSpPr>
          <p:cNvPr id="29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F02C-A68D-4D01-B313-5BC8CC122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6760" y="692280"/>
            <a:ext cx="4616640" cy="3463920"/>
          </a:xfrm>
          <a:prstGeom prst="rect">
            <a:avLst/>
          </a:prstGeom>
          <a:ln w="0">
            <a:noFill/>
          </a:ln>
        </p:spPr>
      </p:sp>
      <p:sp>
        <p:nvSpPr>
          <p:cNvPr id="29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6C18-2A43-4C0C-97C0-390DC1E8B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6760" y="692280"/>
            <a:ext cx="4616640" cy="3463920"/>
          </a:xfrm>
          <a:prstGeom prst="rect">
            <a:avLst/>
          </a:prstGeom>
          <a:ln w="0">
            <a:noFill/>
          </a:ln>
        </p:spPr>
      </p:sp>
      <p:sp>
        <p:nvSpPr>
          <p:cNvPr id="30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D5CB-190F-4237-ABCE-163097BE3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6760" y="692280"/>
            <a:ext cx="4616640" cy="3463920"/>
          </a:xfrm>
          <a:prstGeom prst="rect">
            <a:avLst/>
          </a:prstGeom>
          <a:ln w="0">
            <a:noFill/>
          </a:ln>
        </p:spPr>
      </p:sp>
      <p:sp>
        <p:nvSpPr>
          <p:cNvPr id="30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B3E7-0BDA-4584-8305-43B6D0472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7E8CD3-BFB7-4C26-95C7-848C1DF90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BA272B-A8FE-41F6-8962-938E582EC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90C2F1-D1C6-4820-9E39-6749AF31D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B1D63D6-FC65-4E27-8A83-88E7DC8C5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6A55B-6458-4FD0-B679-26EBBDFAC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BB201-36C5-4B9E-A1A9-64BB33908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E3594-E851-4C5A-9432-119BA101D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B1064-C0C5-4F92-A695-353D41675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E1655-83B5-474C-B4FF-11FBDCE70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C4F11-7AD8-4466-A5A6-253544114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22435-27DF-463A-87E3-C8B50EBC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986C93-ADD9-4B8B-BD21-FC3671452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542BD-811B-4EE6-B57F-5379E4E9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8567F-FC2E-4BD3-8AE5-CFD7E663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6211-4ED1-4D5D-9B61-7C892898E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8A60D-8939-4A1B-A945-C0C122CE4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9D2E9-AF72-40DB-8E33-70202B313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2C4E5F-1188-4105-A3E8-551447F85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16CE9D-EAAA-4C09-82D4-5FD61B129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81FA2D-DAD6-4708-ADE8-95FFCB958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84796F-3519-4027-9748-DFD20A3B2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26C481-9247-454D-9411-8C5B47494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B86D32-C348-455A-B4DB-077E3BFA2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B45878-E565-4332-936F-40511440D4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7192-4A41-4994-BA28-2CF8A9B3D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41D7-12BC-4CDE-8836-68F7D8B6C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04FA4-048D-46F3-8FE8-DA22337279C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762F5-2C27-42F0-AA62-BC880E1D2B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4A4D1-20D8-4334-BBB7-23BFA35B0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7/11/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9" name=""/>
          <p:cNvSpPr txBox="1"/>
          <p:nvPr/>
        </p:nvSpPr>
        <p:spPr>
          <a:xfrm>
            <a:off x="266760" y="6854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0" name="Chart 3" descr=""/>
          <p:cNvPicPr/>
          <p:nvPr/>
        </p:nvPicPr>
        <p:blipFill>
          <a:blip r:embed="rId1"/>
          <a:stretch/>
        </p:blipFill>
        <p:spPr>
          <a:xfrm>
            <a:off x="237960" y="1146240"/>
            <a:ext cx="7382160" cy="479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72" name=""/>
          <p:cNvSpPr txBox="1"/>
          <p:nvPr/>
        </p:nvSpPr>
        <p:spPr>
          <a:xfrm>
            <a:off x="266760" y="685440"/>
            <a:ext cx="8686800" cy="571500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Release 3: NPRR801, Non-Controllable Load Resource MW in Physical Response Capability (PRC)</a:t>
            </a:r>
            <a:endParaRPr b="0" lang="en-US" sz="2400" spc="-1" strike="noStrike">
              <a:solidFill>
                <a:srgbClr val="000000"/>
              </a:solidFill>
              <a:latin typeface="Arial"/>
            </a:endParaRPr>
          </a:p>
          <a:p>
            <a:pPr lvl="1" marL="743040" indent="-285840">
              <a:spcBef>
                <a:spcPts val="11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801 revises the PRC calculation in EMS from including the Responsive Reserve (RRS) service MW responsibility from Load Resources controlled by high-set under frequency relays </a:t>
            </a:r>
            <a:r>
              <a:rPr b="0" lang="en-US" sz="1800" spc="-1" strike="noStrike" u="sng">
                <a:solidFill>
                  <a:srgbClr val="000000"/>
                </a:solidFill>
                <a:uFillTx/>
                <a:latin typeface="Arial"/>
              </a:rPr>
              <a:t>to including all MW from these Load Resources from their current output to their Low Power Consumption (LPC) capped at 150% of the Qualified Scheduling Entity’s (QSEs) RRS responsibility from non-Controllable Load Resources</a:t>
            </a:r>
            <a:endParaRPr b="0" lang="en-US" sz="1800" spc="-1" strike="noStrike">
              <a:solidFill>
                <a:srgbClr val="000000"/>
              </a:solidFill>
              <a:latin typeface="Arial"/>
            </a:endParaRPr>
          </a:p>
          <a:p>
            <a:pPr lvl="1" marL="743040" indent="-285840">
              <a:spcBef>
                <a:spcPts val="60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Reserve Demand Curve (ORDC) reserves have been adjusted in the Other Binding Document to align with this PRC change</a:t>
            </a:r>
            <a:endParaRPr b="0" lang="en-US" sz="1800" spc="-1" strike="noStrike">
              <a:solidFill>
                <a:srgbClr val="000000"/>
              </a:solidFill>
              <a:latin typeface="Arial"/>
            </a:endParaRPr>
          </a:p>
          <a:p>
            <a:pPr lvl="1" marL="743040" indent="-285840">
              <a:spcBef>
                <a:spcPts val="60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cillary Service imbalance Settlement was changed to align with the change to the ORDC reserves</a:t>
            </a:r>
            <a:endParaRPr b="0" lang="en-US" sz="1800" spc="-1" strike="noStrike">
              <a:solidFill>
                <a:srgbClr val="000000"/>
              </a:solidFill>
              <a:latin typeface="Arial"/>
            </a:endParaRPr>
          </a:p>
          <a:p>
            <a:pPr lvl="1" marL="743040" indent="-285840">
              <a:spcBef>
                <a:spcPts val="601"/>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ent a 10 day notice to MPs before implementing these changes in Release 3, on June 29, 2017</a:t>
            </a:r>
            <a:endParaRPr b="0" lang="en-US" sz="1800" spc="-1" strike="noStrike">
              <a:solidFill>
                <a:srgbClr val="000000"/>
              </a:solidFill>
              <a:latin typeface="Arial"/>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74" name=""/>
          <p:cNvSpPr txBox="1"/>
          <p:nvPr/>
        </p:nvSpPr>
        <p:spPr>
          <a:xfrm>
            <a:off x="266760" y="685440"/>
            <a:ext cx="8686800" cy="563868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settlement Rule (Protocol Sections 9.2.5 (2) and 9.5.6 (2))</a:t>
            </a:r>
            <a:endParaRPr b="1" lang="en-US" sz="24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submit Comments to NPRR819, Resettlement Clean-ups, with language to replace the current 2% Resettlement Rule</a:t>
            </a:r>
            <a:endParaRPr b="1" lang="en-US" sz="20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Objectives:</a:t>
            </a:r>
            <a:endParaRPr b="1" lang="en-US" sz="20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 a resettlement threshold that is fair to large and small MPs, replacing the existing 2% resettlement ru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se the resettlement threshold on the DAM and RTM median settlement statement amount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the issue of small errors that cumulatively create an impact which exceeds a threshold that is fair to large and small MP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ose actual daily resettlements, as opposed to alternative settlement resolution, to provide for automation and systematic historical referenc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an error other than a pricing error that has a cumulative impact, designate a cutoff for the number of days the market will go back and resett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he cutoff for DAM resettlements due to the cumulative impact of an error other than a pricing error prior to the RTM True-up Resettlement, so its results are included in the resettlement of the RTM </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 the number of resettlements due to errors other than pricing errors to the Settlement Stability Report for visibility into and review of the impact of NPRR819</a:t>
            </a:r>
            <a:endParaRPr b="1" lang="en-US" sz="1500" spc="-1" strike="noStrike">
              <a:solidFill>
                <a:srgbClr val="000000"/>
              </a:solidFill>
              <a:latin typeface="Arial"/>
            </a:endParaRPr>
          </a:p>
          <a:p>
            <a:pPr lvl="3" marL="1371600" indent="-457200">
              <a:spcBef>
                <a:spcPts val="2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DWG Update</a:t>
            </a:r>
            <a:endParaRPr b="0" lang="en-US" sz="2400" spc="-1" strike="noStrike">
              <a:solidFill>
                <a:srgbClr val="000000"/>
              </a:solidFill>
              <a:latin typeface="Arial Black"/>
            </a:endParaRPr>
          </a:p>
        </p:txBody>
      </p:sp>
      <p:sp>
        <p:nvSpPr>
          <p:cNvPr id="276" name=""/>
          <p:cNvSpPr txBox="1"/>
          <p:nvPr/>
        </p:nvSpPr>
        <p:spPr>
          <a:xfrm>
            <a:off x="266760" y="685440"/>
            <a:ext cx="8686800" cy="5638680"/>
          </a:xfrm>
          <a:prstGeom prst="rect">
            <a:avLst/>
          </a:prstGeom>
          <a:noFill/>
          <a:ln w="0">
            <a:noFill/>
          </a:ln>
        </p:spPr>
        <p:txBody>
          <a:bodyPr anchor="t">
            <a:normAutofit/>
          </a:bodyPr>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Priorities</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 Change Visibility/Change Management</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ising awareness of issues related to down-stream impacts of data product change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ibuting to process improvement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WG is preparing a whitepaper for review</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WS Modifications</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ing solution proposals</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Quick-Start Guide</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ed process of evaluating and test driving the guide ERCOT created for Market Participants</a:t>
            </a:r>
            <a:endParaRPr b="0" lang="en-US" sz="1900" spc="-1" strike="noStrike">
              <a:solidFill>
                <a:srgbClr val="000000"/>
              </a:solidFill>
              <a:latin typeface="Arial"/>
            </a:endParaRPr>
          </a:p>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Release 6 Changes; Go-live 12/6/17 – 12/8/17</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o Load Forecast Distribution Factors report publishing frequency</a:t>
            </a:r>
            <a:endParaRPr b="0" lang="en-US" sz="20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in ERCOT Region report automated and published in MIS</a:t>
            </a:r>
            <a:endParaRPr b="0" lang="en-US" sz="20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78"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Process</a:t>
            </a:r>
            <a:endParaRPr b="1"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validations are in progress</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observed spikes for required changes, e.g., RESHIWR to RESLOWR</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methodologies used</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the process and determining if it is still necessary</a:t>
            </a:r>
            <a:endParaRPr b="0"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ing the Impact Analysis for LPGRR063, Modification of Oil &amp; Gas Profile Requests</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viewed the Annual UFE Report on May 31, 2017 </a:t>
            </a:r>
            <a:endParaRPr b="1" lang="en-US" sz="2400" spc="-1" strike="noStrike">
              <a:solidFill>
                <a:srgbClr val="000000"/>
              </a:solidFill>
              <a:latin typeface="Arial"/>
            </a:endParaRPr>
          </a:p>
          <a:p>
            <a:pPr lvl="1" marL="85716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80" name=""/>
          <p:cNvSpPr txBox="1"/>
          <p:nvPr/>
        </p:nvSpPr>
        <p:spPr>
          <a:xfrm>
            <a:off x="533520" y="6854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July 19, 2017</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Meeting Since Last Update</a:t>
            </a:r>
            <a:endParaRPr b="0" lang="en-US" sz="2400" spc="-1" strike="noStrike">
              <a:solidFill>
                <a:srgbClr val="000000"/>
              </a:solidFill>
              <a:latin typeface="Arial Black"/>
            </a:endParaRPr>
          </a:p>
        </p:txBody>
      </p:sp>
      <p:sp>
        <p:nvSpPr>
          <p:cNvPr id="252" name=""/>
          <p:cNvSpPr txBox="1"/>
          <p:nvPr/>
        </p:nvSpPr>
        <p:spPr>
          <a:xfrm>
            <a:off x="266760" y="914040"/>
            <a:ext cx="8686800" cy="5257800"/>
          </a:xfrm>
          <a:prstGeom prst="rect">
            <a:avLst/>
          </a:prstGeom>
          <a:noFill/>
          <a:ln w="0">
            <a:noFill/>
          </a:ln>
        </p:spPr>
        <p:txBody>
          <a:bodyPr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S met in person on May 10, 2017</a:t>
            </a:r>
            <a:endParaRPr b="0" lang="en-US" sz="3200" spc="-1" strike="noStrike">
              <a:solidFill>
                <a:srgbClr val="000000"/>
              </a:solidFill>
              <a:latin typeface="Arial"/>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a:t>
            </a:r>
            <a:endParaRPr b="0" lang="en-US" sz="3200" spc="-1" strike="noStrike">
              <a:solidFill>
                <a:srgbClr val="000000"/>
              </a:solidFill>
              <a:latin typeface="Arial"/>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S Information Session via WebEx on June 14, 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Voting Items Approved by TAC</a:t>
            </a:r>
            <a:endParaRPr b="0" lang="en-US" sz="2400" spc="-1" strike="noStrike">
              <a:solidFill>
                <a:srgbClr val="000000"/>
              </a:solidFill>
              <a:latin typeface="Arial Black"/>
            </a:endParaRPr>
          </a:p>
        </p:txBody>
      </p:sp>
      <p:sp>
        <p:nvSpPr>
          <p:cNvPr id="254" name=""/>
          <p:cNvSpPr txBox="1"/>
          <p:nvPr/>
        </p:nvSpPr>
        <p:spPr>
          <a:xfrm>
            <a:off x="266760" y="685800"/>
            <a:ext cx="8686800" cy="548640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2, Load Profiling Guide Revision Request Process, and</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MGRR046, Commercial Operations Market Guide Revision Request Process</a:t>
            </a:r>
            <a:endParaRPr b="1" lang="en-US" sz="24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osed Effective Date: June 1, 2017</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ines the process for revising the Load Profiling Guide and the Commercial Operations Market Guide so that RRs are originally considered at the voting Subcommittee level, and expands the list of LPGRRs requiring ERCOT Board approval</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igns with TAC 2017 Goal #14, Work with ERCOT Staff to develop Protocols and market improvements that support increased data transparency and data availability to the market</a:t>
            </a:r>
            <a:endParaRPr b="0" lang="en-US" sz="2300" spc="-1" strike="noStrike">
              <a:solidFill>
                <a:srgbClr val="000000"/>
              </a:solidFill>
              <a:latin typeface="Arial"/>
            </a:endParaRPr>
          </a:p>
          <a:p>
            <a:pPr lvl="2" marL="1143000" indent="-22860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 Approved</a:t>
            </a:r>
            <a:endParaRPr b="0" lang="en-US" sz="2400" spc="-1" strike="noStrike">
              <a:solidFill>
                <a:srgbClr val="000000"/>
              </a:solidFill>
              <a:latin typeface="Arial Black"/>
            </a:endParaRPr>
          </a:p>
        </p:txBody>
      </p:sp>
      <p:sp>
        <p:nvSpPr>
          <p:cNvPr id="256"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e Working Group </a:t>
            </a:r>
            <a:r>
              <a:rPr b="1" lang="en-US" sz="2400" spc="-1" strike="noStrike" u="sng">
                <a:solidFill>
                  <a:srgbClr val="000000"/>
                </a:solidFill>
                <a:uFillTx/>
                <a:latin typeface="Arial"/>
              </a:rPr>
              <a:t>Scope</a:t>
            </a:r>
            <a:r>
              <a:rPr b="1" lang="en-US" sz="2400" spc="-1" strike="noStrike">
                <a:solidFill>
                  <a:srgbClr val="000000"/>
                </a:solidFill>
                <a:latin typeface="Arial"/>
              </a:rPr>
              <a:t> Update </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Needed to align with updated roles from the LPGRR “overhaul”</a:t>
            </a:r>
            <a:endParaRPr b="0" lang="en-US" sz="2000" spc="-1" strike="noStrike">
              <a:solidFill>
                <a:srgbClr val="000000"/>
              </a:solidFill>
              <a:latin typeface="Arial"/>
            </a:endParaRPr>
          </a:p>
        </p:txBody>
      </p:sp>
      <p:pic>
        <p:nvPicPr>
          <p:cNvPr id="257" name="Picture 1" descr=""/>
          <p:cNvPicPr/>
          <p:nvPr/>
        </p:nvPicPr>
        <p:blipFill>
          <a:blip r:embed="rId1"/>
          <a:stretch/>
        </p:blipFill>
        <p:spPr>
          <a:xfrm>
            <a:off x="417600" y="1963800"/>
            <a:ext cx="8126280" cy="321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9"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SCR, Correction of 60-day SCED GRD Disclosure Report </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draft SCR for submission to ERCOT</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by the MDWG</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es unused MW and price values in SCED Generation Resource Data (GRD) Energy Offer Curves with null values rather than zeroe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31, Inclusion of Private Use Networks in Load Zone Price Calculations</a:t>
            </a:r>
            <a:endParaRPr b="0" lang="en-US" sz="24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submission of Comment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reviewed NPRR831</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d that NPRR831 does not have any impacts to Settlement systems requiring further review</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1"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April 2017</a:t>
            </a:r>
            <a:endParaRPr b="1" lang="en-US" sz="24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1" lang="en-US" sz="20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1"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02/17 – ERCOT experienced an outage of the following services between 12:35 AM – 5:05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15/17 – ERCOT experienced an outage to the Market Information System (MIS) between 11:17 AM – 12:00 PM</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2/17 – ERCOT experienced an outage of the following services between 9:51 AM – 11:11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5/17 – Planned Maintenance (Site Failover – MPIM, Retail AP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6/17 – Planned Maintenance (Site Failover – External Web Servi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Planned Maintenance (Site Failover – MI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The Supplemental AMS Interval Data Extract (COMS-456, Report ID 1040) posted late at 11:30 AM on 04/28/2017</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9/17 – The Supplemental AMS Interval Data Extract (COMS-456, Report ID 1040) posted late at 12:17 AM on 04/30/2017</a:t>
            </a:r>
            <a:endParaRPr b="0" lang="en-US" sz="16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3"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May 2017</a:t>
            </a:r>
            <a:endParaRPr b="1" lang="en-US" sz="24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1" lang="en-US" sz="20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1"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4/17 – ERCOT experienced an outage to the Market Information System (MIS) between 9:29 AM – 10:34 AM</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9/17 – 05/22/17 – ERCOT experienced an issue with the 60-Day Day Ahead Market (DAM) Disclosure Reports (EMIL ID: NP3-966-ER)</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cords for the same Resource were reported in the Generation Resource Data files (60d_DAM_Gen_Resource_Data) within the DAM Disclosure Reports</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implemented a fix for this issue and re-ran the affected files for the dates of 05/09/2017 through 05/22/2017. These re-run files were posted to the MIS in their standard posting location.</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18/17 – The 22:00 posting of the Short-Term System Adequacy Report was missed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31/17 – Planned Maintenance (Site Failover – External Web Servi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1/17 – Planned Maintenance (Site Failover – MPIM, Retail AP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2/17 – Planned Maintenance (Site Failover – MIS)</a:t>
            </a:r>
            <a:endParaRPr b="0" lang="en-US" sz="16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5" name=""/>
          <p:cNvSpPr txBox="1"/>
          <p:nvPr/>
        </p:nvSpPr>
        <p:spPr>
          <a:xfrm>
            <a:off x="266760" y="761760"/>
            <a:ext cx="8686800" cy="563868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Neutrality Update by Aaron Townsend</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Increase in Revenue Neutrality; Jan – Mar 2017 $42 million</a:t>
            </a:r>
            <a:endParaRPr b="0" lang="en-US" sz="20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ause is PTP obligation pay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near PUNs caused High Settlement Point Prices without increasing the Load Zone pric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s sinking at the PUN Node can result in PTP payments without offsetting Load imbalance charg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831, Inclusion of PUN Networks in Load Zone Pricing Status submitted by ERCOT</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selling of PTP’s that occur when a Node is islanded under a contingency in the DA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 modeling can result in overselling when source or sink settlement point are disconnected due to a contingency</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Distribution Factors in DAM Model may not accurately represent load patterns in RT</a:t>
            </a:r>
            <a:endParaRPr b="0" lang="en-US" sz="18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7" name=""/>
          <p:cNvSpPr txBox="1"/>
          <p:nvPr/>
        </p:nvSpPr>
        <p:spPr>
          <a:xfrm>
            <a:off x="266760" y="609120"/>
            <a:ext cx="8686800" cy="5791320"/>
          </a:xfrm>
          <a:prstGeom prst="rect">
            <a:avLst/>
          </a:prstGeom>
          <a:noFill/>
          <a:ln w="0">
            <a:noFill/>
          </a:ln>
        </p:spPr>
        <p:txBody>
          <a:bodyPr anchor="t">
            <a:normAutofit fontScale="95000"/>
          </a:bodyPr>
          <a:p>
            <a:pPr lvl="4"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ccounted For Energy (UFE) Annual Report by Randy Roberts</a:t>
            </a:r>
            <a:endParaRPr b="0" lang="en-US" sz="2400" spc="-1" strike="noStrike">
              <a:solidFill>
                <a:srgbClr val="000000"/>
              </a:solidFill>
              <a:latin typeface="Arial"/>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UFE Daily Average from July 1 2016 through March 31, 2017</a:t>
            </a:r>
            <a:endParaRPr b="0" lang="en-US" sz="20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s: Between -5.03% and 2.93%</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s: Between -0.37% and 1.14%</a:t>
            </a:r>
            <a:endParaRPr b="0" lang="en-US" sz="1800" spc="-1" strike="noStrike">
              <a:solidFill>
                <a:srgbClr val="000000"/>
              </a:solidFill>
              <a:latin typeface="Arial"/>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UFE Monthly Average from July 2016 through March 2017</a:t>
            </a:r>
            <a:endParaRPr b="0" lang="en-US" sz="20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s: Between -0.98% and 0.79%</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s: Between 0.03% and 0.5%</a:t>
            </a:r>
            <a:endParaRPr b="0" lang="en-US" sz="1800" spc="-1" strike="noStrike">
              <a:solidFill>
                <a:srgbClr val="000000"/>
              </a:solidFill>
              <a:latin typeface="Arial"/>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Between -1,174 MWh and 1,158 MWh</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DR: Between -354 MWh and 157 MWh</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DRRQ: Between </a:t>
            </a:r>
            <a:r>
              <a:rPr b="1" lang="en-US" sz="1800" spc="-1" strike="noStrike">
                <a:solidFill>
                  <a:srgbClr val="000000"/>
                </a:solidFill>
                <a:latin typeface="Arial"/>
              </a:rPr>
              <a:t>-6,777</a:t>
            </a:r>
            <a:r>
              <a:rPr b="0" lang="en-US" sz="1800" spc="-1" strike="noStrike">
                <a:solidFill>
                  <a:srgbClr val="000000"/>
                </a:solidFill>
                <a:latin typeface="Arial"/>
              </a:rPr>
              <a:t> MWh and </a:t>
            </a:r>
            <a:r>
              <a:rPr b="1" lang="en-US" sz="1800" spc="-1" strike="noStrike">
                <a:solidFill>
                  <a:srgbClr val="000000"/>
                </a:solidFill>
                <a:latin typeface="Arial"/>
              </a:rPr>
              <a:t>7,381</a:t>
            </a:r>
            <a:r>
              <a:rPr b="0" lang="en-US" sz="1800" spc="-1" strike="noStrike">
                <a:solidFill>
                  <a:srgbClr val="000000"/>
                </a:solidFill>
                <a:latin typeface="Arial"/>
              </a:rPr>
              <a:t> MWh</a:t>
            </a:r>
            <a:endParaRPr b="0" lang="en-US" sz="1800" spc="-1" strike="noStrike">
              <a:solidFill>
                <a:srgbClr val="000000"/>
              </a:solidFill>
              <a:latin typeface="Arial"/>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Monthly Load Change from January 2016 through March 2017</a:t>
            </a:r>
            <a:endParaRPr b="0" lang="en-US" sz="20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Between -1,935 MWh and 1,028 MWh</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DR: Between -6,848 MWh and 1,821 MWh</a:t>
            </a:r>
            <a:endParaRPr b="0" lang="en-US" sz="1800" spc="-1" strike="noStrike">
              <a:solidFill>
                <a:srgbClr val="000000"/>
              </a:solidFill>
              <a:latin typeface="Arial"/>
            </a:endParaRPr>
          </a:p>
          <a:p>
            <a:pPr lvl="1" marL="4341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DRRQ: Between </a:t>
            </a:r>
            <a:r>
              <a:rPr b="1" lang="en-US" sz="1800" spc="-1" strike="noStrike">
                <a:solidFill>
                  <a:srgbClr val="000000"/>
                </a:solidFill>
                <a:latin typeface="Arial"/>
              </a:rPr>
              <a:t>-50,919</a:t>
            </a:r>
            <a:r>
              <a:rPr b="0" lang="en-US" sz="1800" spc="-1" strike="noStrike">
                <a:solidFill>
                  <a:srgbClr val="000000"/>
                </a:solidFill>
                <a:latin typeface="Arial"/>
              </a:rPr>
              <a:t> MWh and </a:t>
            </a:r>
            <a:r>
              <a:rPr b="1" lang="en-US" sz="1800" spc="-1" strike="noStrike">
                <a:solidFill>
                  <a:srgbClr val="000000"/>
                </a:solidFill>
                <a:latin typeface="Arial"/>
              </a:rPr>
              <a:t>45,857</a:t>
            </a:r>
            <a:r>
              <a:rPr b="0" lang="en-US" sz="1800" spc="-1" strike="noStrike">
                <a:solidFill>
                  <a:srgbClr val="000000"/>
                </a:solidFill>
                <a:latin typeface="Arial"/>
              </a:rPr>
              <a:t> MWh</a:t>
            </a:r>
            <a:endParaRPr b="0" lang="en-US" sz="1800" spc="-1" strike="noStrike">
              <a:solidFill>
                <a:srgbClr val="000000"/>
              </a:solidFill>
              <a:latin typeface="Arial"/>
            </a:endParaRPr>
          </a:p>
          <a:p>
            <a:pPr lvl="2" marL="81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endParaRPr b="0" lang="en-US" sz="2400" spc="-1" strike="noStrike">
              <a:solidFill>
                <a:srgbClr val="000000"/>
              </a:solidFill>
              <a:latin typeface="Arial"/>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7-10T14:03:21Z</dcterms:modified>
  <cp:revision>1868</cp:revision>
  <dc:subject/>
  <dc:title>Instructions</dc:title>
</cp:coreProperties>
</file>